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F74-79BD-4C34-95B1-F8941F88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ED1-2CE9-4298-B709-D8991C28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F62-113A-45DA-A612-6E129D3D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4FC-6061-485F-88A2-9C52A2E6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4CC-B811-404E-8F89-93F21736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FB9-10FB-49F8-AE77-CD13180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AED-3BAB-49EA-A99C-9BDD61E4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38D-58E7-4858-AED3-23AFA382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9B7-B592-431E-9424-D1524A6C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02D-332A-494F-81AE-BAA39437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F8C-B81A-4750-AA49-38EB42F9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BB2-93D8-4864-9CAA-1FBF32A0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9E42-089E-4EBC-B9DB-65CB0FA5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 and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rancisco Viramo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a lot of different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different sha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have different sizes; some are big, some are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gate%2002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in volcan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in 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under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under the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la-ecuador-volcano01"/>
          <p:cNvPicPr/>
          <p:nvPr/>
        </p:nvPicPr>
        <p:blipFill>
          <a:blip r:embed="rId1"/>
          <a:stretch/>
        </p:blipFill>
        <p:spPr>
          <a:xfrm>
            <a:off x="5029200" y="160020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flathead-river-rocks-denise--hoff"/>
          <p:cNvPicPr/>
          <p:nvPr/>
        </p:nvPicPr>
        <p:blipFill>
          <a:blip r:embed="rId2"/>
          <a:stretch/>
        </p:blipFill>
        <p:spPr>
          <a:xfrm>
            <a:off x="5214960" y="3938760"/>
            <a:ext cx="2903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are made of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from one mi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cks are made of two or more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lackGalaxy"/>
          <p:cNvPicPr/>
          <p:nvPr/>
        </p:nvPicPr>
        <p:blipFill>
          <a:blip r:embed="rId1"/>
          <a:stretch/>
        </p:blipFill>
        <p:spPr>
          <a:xfrm>
            <a:off x="5562720" y="4038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ock-photo-semi-precious-gemstones-blue-lace-agate-aquamarine-apatite-fushite-beryl-amazonite-angelite-4046458"/>
          <p:cNvPicPr/>
          <p:nvPr/>
        </p:nvPicPr>
        <p:blipFill>
          <a:blip r:embed="rId2"/>
          <a:stretch/>
        </p:blipFill>
        <p:spPr>
          <a:xfrm>
            <a:off x="5486400" y="1371600"/>
            <a:ext cx="24382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imals-and-plants31701s"/>
          <p:cNvPicPr/>
          <p:nvPr/>
        </p:nvPicPr>
        <p:blipFill>
          <a:blip r:embed="rId1"/>
          <a:stretch/>
        </p:blipFill>
        <p:spPr>
          <a:xfrm>
            <a:off x="1828800" y="304920"/>
            <a:ext cx="552456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290040" y="46483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ake energy from the sun and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ke their own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Nd9GcS7FOyzw-HP0CPeMgSsfKG9oUR0BlQuhRI_W9FRHO0zEHdHQMQvPQ"/>
          <p:cNvPicPr/>
          <p:nvPr/>
        </p:nvPicPr>
        <p:blipFill>
          <a:blip r:embed="rId1"/>
          <a:stretch/>
        </p:blipFill>
        <p:spPr>
          <a:xfrm>
            <a:off x="5153040" y="193500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rass"/>
          <p:cNvPicPr/>
          <p:nvPr/>
        </p:nvPicPr>
        <p:blipFill>
          <a:blip r:embed="rId2"/>
          <a:stretch/>
        </p:blipFill>
        <p:spPr>
          <a:xfrm>
            <a:off x="4889520" y="3938760"/>
            <a:ext cx="3554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nimals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, horses, turtles, and birds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orse_578_600x450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t eaters are carniv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ns, T-Rex, cats, and dogs are carniv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ion-Wallpapers-For-Desktop-3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ers eat dead plants an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s are decompo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50px-Regenwurm1"/>
          <p:cNvPicPr/>
          <p:nvPr/>
        </p:nvPicPr>
        <p:blipFill>
          <a:blip r:embed="rId1"/>
          <a:stretch/>
        </p:blipFill>
        <p:spPr>
          <a:xfrm>
            <a:off x="5105520" y="1676520"/>
            <a:ext cx="317484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4:55:29Z</dcterms:created>
  <dc:creator>aedwards</dc:creator>
  <dc:description/>
  <dc:language>en-US</dc:language>
  <cp:lastModifiedBy>Jeanette</cp:lastModifiedBy>
  <dcterms:modified xsi:type="dcterms:W3CDTF">2012-12-13T22:38:30Z</dcterms:modified>
  <cp:revision>2</cp:revision>
  <dc:subject/>
  <dc:title>Rocks and Minerals</dc:title>
</cp:coreProperties>
</file>